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D98-D051-4646-808F-42A21AF7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717-B7F5-421E-BCA1-D11B8BAB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FE8-ADB8-4A47-AFC2-4F231F8D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E5B-C3CA-421E-9BF2-E1EFE86B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C3F-0BE2-4FA5-BB76-DD87CE79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A6A-49C9-41AD-B995-D5D4610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52C2-6990-45ED-954F-8498285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926-AE3A-4CA4-BCF8-756AEADE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2C4-D5C8-4013-8B05-3B0A442F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82B1-C1E0-40D2-B8CE-8F6302A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3BF-FC19-4846-84F5-97289866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BCC-A307-42CE-B49B-550852C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D4E1-25F9-4198-8106-2B37CB465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umea piticilo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ovești pentru cei 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89120" y="2133720"/>
            <a:ext cx="2281320" cy="263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27760" y="2133720"/>
            <a:ext cx="214452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3:45Z</dcterms:created>
  <dc:creator>AS</dc:creator>
  <dc:description/>
  <dc:language>en-US</dc:language>
  <cp:lastModifiedBy>AS</cp:lastModifiedBy>
  <dcterms:modified xsi:type="dcterms:W3CDTF">2010-01-07T19:36:11Z</dcterms:modified>
  <cp:revision>5</cp:revision>
  <dc:subject/>
  <dc:title>Lumea piticilor …</dc:title>
</cp:coreProperties>
</file>